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6.jpeg" ContentType="image/jpeg"/>
  <Override PartName="/ppt/media/image8.png" ContentType="image/png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527-256E-464C-A7B3-0BC6A3B6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D22-226B-4992-BAEE-5E9A499D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42D-211F-41DF-8561-C17F65C6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D51-D0AE-4B2D-A1AF-F122B00E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210-415E-4E39-871F-28CCF3DC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C45-F009-40BE-BA57-FBCBAABB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1D5-9157-4F1C-8787-0A1CF912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B1D-4539-4985-9071-13129FA4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8C4-0CD8-45AB-91E6-528E2F3B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310-33DF-4154-97DE-43507F84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FCF-E556-468D-BAE1-8E1D1CA5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D8E-0306-4F5F-A9B4-41009F0F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890233-9863-4590-A896-BF5E6A83492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</a:rPr>
              <a:t>«поселок Новокасторное»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на 2015 г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и на плановый пери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2016 и 2017 годов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поселок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Новокасторное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7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-468360" y="1341360"/>
          <a:ext cx="9396360" cy="519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68360" y="1341360"/>
                    <a:ext cx="939636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поселок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Новокасторное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»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на 2015 год и на плановый период 2016 и 2017 годов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1125360"/>
          <a:ext cx="8231040" cy="553428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3938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2015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2016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2017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73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84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84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Национальная 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3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3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88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1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4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63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66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74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Социальна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Microsoft YaHei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Microsoft YaHei"/>
                        </a:rPr>
                        <a:t>                  </a:t>
                      </a: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23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74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64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поселок 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Новокасторное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»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асторенского района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Курской области в 2015-2017 годах (тыс.руб.)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907920"/>
          <a:ext cx="9002520" cy="6529680"/>
        </p:xfrm>
        <a:graphic>
          <a:graphicData uri="http://schemas.openxmlformats.org/drawingml/2006/table">
            <a:tbl>
              <a:tblPr/>
              <a:tblGrid>
                <a:gridCol w="6603840"/>
                <a:gridCol w="776160"/>
                <a:gridCol w="776520"/>
                <a:gridCol w="846000"/>
              </a:tblGrid>
              <a:tr h="50364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36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76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67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Times New Roman"/>
                        </a:rPr>
                        <a:t>1 . Муниципальная программа «Развитие культур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63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66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74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2 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 Муниципальная программа «Энергосбережение и повышение энергетической эффективности в МО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 Муниципальная программа «Обеспечение доступным и комфортным жильем и коммунальными услугами граждан» МО «поселок 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Новокасторное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5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4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 Муниципальная программа «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Повышение эффективности работы с молодежью ,организация отдыха и оздоровление детей ,молодежи,развитие физической культуры и спорт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 Муниципальная программа  и «Развитие муниципальной службы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6</a:t>
                      </a:r>
                      <a:r>
                        <a:rPr b="1" i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</a:t>
                      </a:r>
                      <a:r>
                        <a:rPr b="1" i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Муниципальная программа Курской области «Развитие транспортной системы ,обеспечение перевозки пассажиров в МО «поселок Новокасторное»Касторенского района Курской области»и безопасности дорожного движен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83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711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4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Муниципальная  программа «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Профилактика правонарушени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8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</a:t>
                      </a:r>
                      <a:r>
                        <a:rPr b="1" i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Муниципальная  программа «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поселок Новокасторное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»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231040" cy="406080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201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738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841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841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2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2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2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28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28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28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3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03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03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Администрации поселка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овокастор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«поселок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овокасторное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«поселок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Новокасторное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»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Курской области на 2015 год и плановый период 2016-2017 годов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8353440" cy="4253040"/>
        </p:xfrm>
        <a:graphic>
          <a:graphicData uri="http://schemas.openxmlformats.org/drawingml/2006/table">
            <a:tbl>
              <a:tblPr/>
              <a:tblGrid>
                <a:gridCol w="2670120"/>
                <a:gridCol w="1566720"/>
                <a:gridCol w="1560600"/>
                <a:gridCol w="2556000"/>
              </a:tblGrid>
              <a:tr h="700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33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45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48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9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32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484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33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45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поселок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Новокасторное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» на 2015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99" name="AutoShape 4"/>
            <p:cNvCxnSpPr>
              <a:stCxn id="100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5"/>
            <p:cNvCxnSpPr>
              <a:stCxn id="102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6"/>
            <p:cNvCxnSpPr>
              <a:stCxn id="104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05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106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5233,1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4438,5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304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490,6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поселок Новокасторное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» на 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6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111" name="AutoShape 4"/>
            <p:cNvCxnSpPr>
              <a:stCxn id="112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3" name="AutoShape 5"/>
            <p:cNvCxnSpPr>
              <a:stCxn id="114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5" name="AutoShape 6"/>
            <p:cNvCxnSpPr>
              <a:stCxn id="116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17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118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5745,4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5245,1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315,2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85,1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поселок Новокасторное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» на 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7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123" name="AutoShape 4"/>
            <p:cNvCxnSpPr>
              <a:stCxn id="124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25" name="AutoShape 5"/>
            <p:cNvCxnSpPr>
              <a:stCxn id="126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27" name="AutoShape 6"/>
            <p:cNvCxnSpPr>
              <a:stCxn id="128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29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130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5642,3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5096,4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321,6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24,3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поселок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Новокасторное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5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0" y="1341360"/>
          <a:ext cx="9144000" cy="50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914400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-68436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поселок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Новокасторное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6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-851040" y="1413000"/>
          <a:ext cx="999504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851040" y="1413000"/>
                    <a:ext cx="99950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PC</cp:lastModifiedBy>
  <dcterms:modified xsi:type="dcterms:W3CDTF">2015-10-13T12:30:43Z</dcterms:modified>
  <cp:revision>39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